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3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B89D-282C-4E1C-9154-985AA096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23AB-C206-4567-8C8C-A6CD4B66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6C38-F841-45F0-A236-893E7D0A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9754-766D-41F6-8CD6-2229376F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1CCE-A25B-4AE0-BB8D-0874F8BB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DB59-189B-45AF-AF21-D3BC9542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6D0B-D449-4AFD-9CA3-69881577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9071-1B42-4460-9B11-87D3628C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D501-F6D6-4AA6-BAF6-F0CAD328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F7C4-160F-4C92-B6D7-559BE30E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996C-82DF-4C91-956F-D2077156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7D3-E20D-47CB-A122-0706DC8E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71CE-D36C-4336-B715-F6D59747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09AB-EA4E-4A95-B95A-2451E841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43C6-ACA1-476A-A16E-77ADC1C7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9B53-3246-4CAD-A107-D6365BE2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AF88-FBAE-4035-9D5D-F7ACC6F6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FE8A-4202-4915-92CF-A9D2A7B1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E4ED-99B5-47BA-93F6-FEF9E2E2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4E97-3528-4A09-AFB1-F99EBB8C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4F39-ABE4-4E28-BB34-D2C1C188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61FB-1878-4F90-962F-8C501DD0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6C6-2DFC-4694-98FB-2D9E35B1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D5F6-0B7E-4229-A197-FBBF4330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6AEB-2D62-48F9-9B5F-666A66F4C3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13C2-85AA-462C-9A18-8AF3092647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Arial"/>
              </a:rPr>
              <a:t>Димитър Пешев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1894 – 1973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32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- Спасителят на българските евре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DimiterPeshevHouseM3"/>
          <p:cNvPicPr/>
          <p:nvPr/>
        </p:nvPicPr>
        <p:blipFill>
          <a:blip r:embed="rId1"/>
          <a:stretch/>
        </p:blipFill>
        <p:spPr>
          <a:xfrm>
            <a:off x="468360" y="2133720"/>
            <a:ext cx="2736720" cy="43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Dimitar Peshev.jpg"/>
          <p:cNvPicPr/>
          <p:nvPr/>
        </p:nvPicPr>
        <p:blipFill>
          <a:blip r:embed="rId1"/>
          <a:stretch/>
        </p:blipFill>
        <p:spPr>
          <a:xfrm>
            <a:off x="250920" y="476280"/>
            <a:ext cx="3682800" cy="540072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4140360" y="907920"/>
            <a:ext cx="476244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късния следобед н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 март 1943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имитър Пешев влетява в кабинета на  Министъра на вътрешните рабо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лед бурен скандал,  министърът  издава заповед  извозването  на евреите да бъде  отложено. 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10 март 1943 г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лицейската акция за арестуването на евреи е спря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335880" y="544500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61616"/>
                </a:solidFill>
                <a:latin typeface="Arial"/>
              </a:rPr>
              <a:t>Димитър Пеш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4"/>
          <p:cNvSpPr/>
          <p:nvPr/>
        </p:nvSpPr>
        <p:spPr>
          <a:xfrm>
            <a:off x="179280" y="476280"/>
            <a:ext cx="36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ешев смята, че това не е достатъчно и затова, на 17 март подготвя подписка срещу случващото се, която е подкрепена от  още 42 депута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отестът е внесен за обсъждане в Парламента на 26 март, въпреки че министър-председателят Богдан Филов настоява Пешев да се откаж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4067280" y="3357720"/>
            <a:ext cx="507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7" descr="2319864429.jpg"/>
          <p:cNvPicPr/>
          <p:nvPr/>
        </p:nvPicPr>
        <p:blipFill>
          <a:blip r:embed="rId1"/>
          <a:stretch/>
        </p:blipFill>
        <p:spPr>
          <a:xfrm>
            <a:off x="4572000" y="115920"/>
            <a:ext cx="42642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324000" y="3933720"/>
            <a:ext cx="835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ради това, на 26 март  1943 г.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имитър Пешев  е свален от поста с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о безпрецедентният факт, че Парламентът дискутир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тайните планове на правителството  за депортацията на българските евреи,  допринася за тяхното осуетява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5" descr="nsfilov - Копие.jpg"/>
          <p:cNvPicPr/>
          <p:nvPr/>
        </p:nvPicPr>
        <p:blipFill>
          <a:blip r:embed="rId1"/>
          <a:stretch/>
        </p:blipFill>
        <p:spPr>
          <a:xfrm>
            <a:off x="1692360" y="260280"/>
            <a:ext cx="532764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250920" y="1341360"/>
            <a:ext cx="396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ързите и решителни действия на  42-та депутати, начело с подпредседателя на Народното събрание  Димитър Пешев, които се обявяват срещу случващото се, правят  тези действия  срещу евреите действията публично известн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6" descr="Дим пеш 2"/>
          <p:cNvPicPr/>
          <p:nvPr/>
        </p:nvPicPr>
        <p:blipFill>
          <a:blip r:embed="rId1"/>
          <a:stretch/>
        </p:blipFill>
        <p:spPr>
          <a:xfrm>
            <a:off x="4284720" y="1628640"/>
            <a:ext cx="468000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6" descr="fpsbe.mitr.Stefan.jpg"/>
          <p:cNvPicPr/>
          <p:nvPr/>
        </p:nvPicPr>
        <p:blipFill>
          <a:blip r:embed="rId1"/>
          <a:stretch/>
        </p:blipFill>
        <p:spPr>
          <a:xfrm>
            <a:off x="0" y="0"/>
            <a:ext cx="3492360" cy="44067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8"/>
          <p:cNvSpPr/>
          <p:nvPr/>
        </p:nvSpPr>
        <p:spPr>
          <a:xfrm>
            <a:off x="3492360" y="189000"/>
            <a:ext cx="5400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16 март е свикано извънредно заседание на Св. Синод на Българската православна църква. Митрополитите  изготвят  официално писмо до  премиера  Богдан Филов. В него те категорично изразяват възмущението си от намерението на правителството да депортира евреите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9"/>
          <p:cNvSpPr/>
          <p:nvPr/>
        </p:nvSpPr>
        <p:spPr>
          <a:xfrm>
            <a:off x="0" y="0"/>
            <a:ext cx="34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Софийският митрополит Стефа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10" descr="митрополит Кирил - Копие.jpg"/>
          <p:cNvPicPr/>
          <p:nvPr/>
        </p:nvPicPr>
        <p:blipFill>
          <a:blip r:embed="rId2"/>
          <a:stretch/>
        </p:blipFill>
        <p:spPr>
          <a:xfrm>
            <a:off x="6300720" y="2852640"/>
            <a:ext cx="2249640" cy="37674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1"/>
          <p:cNvSpPr/>
          <p:nvPr/>
        </p:nvSpPr>
        <p:spPr>
          <a:xfrm>
            <a:off x="2432160" y="6165720"/>
            <a:ext cx="38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Пловдивският митрополит Кири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0" y="1507320"/>
            <a:ext cx="5761080" cy="49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Това обаче става възможно и благодар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а солидарността на обикновените българ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а традиционната им толерантност към съседа  от друг етнос и религ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а 24 май 1943 г., хиляди българи  излизат по улиците на  големите градове , не за да отбележат Деня на Светите братя Кирил и Методий, а в знак на протест срещу подготвяното от правителството  депортиране на българските евре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179280" y="26028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езспорна е ролята на личности като  Димитър Пешев и митрополитите Стефан и Кирил за спасението на българските евре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6" descr="Saints Cyril and Methodius (2).jpg"/>
          <p:cNvPicPr/>
          <p:nvPr/>
        </p:nvPicPr>
        <p:blipFill>
          <a:blip r:embed="rId1"/>
          <a:stretch/>
        </p:blipFill>
        <p:spPr>
          <a:xfrm>
            <a:off x="5796000" y="1916280"/>
            <a:ext cx="302400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Adolf Hitler greets King Boris of Bulgaria on the occasion of the king's visit to Germany - Копие.jpg"/>
          <p:cNvPicPr/>
          <p:nvPr/>
        </p:nvPicPr>
        <p:blipFill>
          <a:blip r:embed="rId1"/>
          <a:stretch/>
        </p:blipFill>
        <p:spPr>
          <a:xfrm>
            <a:off x="179280" y="260280"/>
            <a:ext cx="3313080" cy="2576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th_300 - Копие.jpg"/>
          <p:cNvPicPr/>
          <p:nvPr/>
        </p:nvPicPr>
        <p:blipFill>
          <a:blip r:embed="rId2"/>
          <a:stretch/>
        </p:blipFill>
        <p:spPr>
          <a:xfrm>
            <a:off x="6300720" y="2997360"/>
            <a:ext cx="2502000" cy="3498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5"/>
          <p:cNvSpPr/>
          <p:nvPr/>
        </p:nvSpPr>
        <p:spPr>
          <a:xfrm>
            <a:off x="3780000" y="105264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На 14 август 1943 г., цар Борис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се среща с Хитлер. Българският цар отказва да предаде българските евре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 flipH="1">
            <a:off x="324000" y="3716280"/>
            <a:ext cx="54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вреите са изселени от големите градове в провинцията, но нито един евреин не е принуден да напусне страната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з 1945 г. в България има 50 000 евреи  -  точно толкова колкото са били и преди Втората световна вой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3" descr="side.gif"/>
          <p:cNvPicPr/>
          <p:nvPr/>
        </p:nvPicPr>
        <p:blipFill>
          <a:blip r:embed="rId1"/>
          <a:stretch/>
        </p:blipFill>
        <p:spPr>
          <a:xfrm>
            <a:off x="5867280" y="620640"/>
            <a:ext cx="2167200" cy="52275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"/>
          <p:cNvSpPr/>
          <p:nvPr/>
        </p:nvSpPr>
        <p:spPr>
          <a:xfrm>
            <a:off x="468360" y="1844640"/>
            <a:ext cx="51116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имитър Пешев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йто  съвсем заслужено е наречен “Спасителят на българските евреи”   умира   в Соф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 25 февруари  1973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явен е за почетен гражданин на Кюстендил и Израе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56908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лото на Димитър Пешев  – “Спасителят  на 50 000 български евреи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 почетено с дърво на негово и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Гората на праведниците в Йерусал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3" descr="the garden of Righteous - Копие.jpg"/>
          <p:cNvPicPr/>
          <p:nvPr/>
        </p:nvPicPr>
        <p:blipFill>
          <a:blip r:embed="rId1"/>
          <a:stretch/>
        </p:blipFill>
        <p:spPr>
          <a:xfrm>
            <a:off x="0" y="2276640"/>
            <a:ext cx="5075280" cy="3321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евр пам5"/>
          <p:cNvPicPr/>
          <p:nvPr/>
        </p:nvPicPr>
        <p:blipFill>
          <a:blip r:embed="rId2"/>
          <a:stretch/>
        </p:blipFill>
        <p:spPr>
          <a:xfrm>
            <a:off x="4788000" y="3716280"/>
            <a:ext cx="39607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96472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25 януари 2000г. по инициатива на българската делегация в ПАС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сградата на Съвета на Европа в Страсбург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ред с бюстовете на основателите на Обединена Европ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 поставен  бюст на Димитър Пешев,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р от българското Народно събр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ОТКРИВАНЕ НА БЮСТА В СТРАСБУРГ-1"/>
          <p:cNvPicPr/>
          <p:nvPr/>
        </p:nvPicPr>
        <p:blipFill>
          <a:blip r:embed="rId1"/>
          <a:stretch/>
        </p:blipFill>
        <p:spPr>
          <a:xfrm>
            <a:off x="1332000" y="2997360"/>
            <a:ext cx="67039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468360" y="4941720"/>
            <a:ext cx="828036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имитър Пешев е роден в Кюстендил на 25 юни 1894 г. Завършва право в Софийския университет “Св. Климент Охридски”. Работи като съдия, прокурор и адвокат в Пловдив и Соф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2" descr="D:\Documents\PROJECTS     2010-12\ист. събития\JEWS\РОДНА КЪЩА В КЮСТЕНДИЛ.jpg"/>
          <p:cNvPicPr/>
          <p:nvPr/>
        </p:nvPicPr>
        <p:blipFill>
          <a:blip r:embed="rId1"/>
          <a:stretch/>
        </p:blipFill>
        <p:spPr>
          <a:xfrm>
            <a:off x="1332000" y="189000"/>
            <a:ext cx="5976720" cy="44812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3059280" y="189000"/>
            <a:ext cx="42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61616"/>
                </a:solidFill>
                <a:latin typeface="Arial"/>
              </a:rPr>
              <a:t>Родната къща на Димитър Пеш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161616"/>
                </a:solidFill>
                <a:latin typeface="Arial"/>
              </a:rPr>
              <a:t>в гр. Кюстенди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3"/>
          <p:cNvSpPr/>
          <p:nvPr/>
        </p:nvSpPr>
        <p:spPr>
          <a:xfrm>
            <a:off x="179280" y="18900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Денят  на Холокоста  в България  е10 март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Това е денят  на спасяването на българските евре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Именно на този ден,  през 1943 г., депортацията на български евреи е спря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в резултат от бързите и решителни действия на  Димитър Пеше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4" descr="Паметник на спасението в Пловдив.JPG"/>
          <p:cNvPicPr/>
          <p:nvPr/>
        </p:nvPicPr>
        <p:blipFill>
          <a:blip r:embed="rId1"/>
          <a:stretch/>
        </p:blipFill>
        <p:spPr>
          <a:xfrm>
            <a:off x="1403280" y="1989000"/>
            <a:ext cx="6120000" cy="45910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1403280" y="558972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61616"/>
                </a:solidFill>
                <a:latin typeface="Arial"/>
              </a:rPr>
              <a:t>Паметникът на спасените български евреи в Пловди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8" descr="книга3"/>
          <p:cNvPicPr/>
          <p:nvPr/>
        </p:nvPicPr>
        <p:blipFill>
          <a:blip r:embed="rId1"/>
          <a:stretch/>
        </p:blipFill>
        <p:spPr>
          <a:xfrm>
            <a:off x="395280" y="1484280"/>
            <a:ext cx="2925720" cy="4464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вест2"/>
          <p:cNvPicPr/>
          <p:nvPr/>
        </p:nvPicPr>
        <p:blipFill>
          <a:blip r:embed="rId2"/>
          <a:stretch/>
        </p:blipFill>
        <p:spPr>
          <a:xfrm>
            <a:off x="6516720" y="3500280"/>
            <a:ext cx="2106720" cy="3090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160px-Dimitar_Peshev"/>
          <p:cNvPicPr/>
          <p:nvPr/>
        </p:nvPicPr>
        <p:blipFill>
          <a:blip r:embed="rId3"/>
          <a:stretch/>
        </p:blipFill>
        <p:spPr>
          <a:xfrm>
            <a:off x="3780000" y="549360"/>
            <a:ext cx="2592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5"/>
          <p:cNvSpPr/>
          <p:nvPr/>
        </p:nvSpPr>
        <p:spPr>
          <a:xfrm>
            <a:off x="250920" y="4508640"/>
            <a:ext cx="87138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ез 1935 г.  става  министър на правосъдиет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 кабинета на Георги Кьосеиван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т 1938 г. е заместник председател на 24-т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бикновено народно събрание, а от 1940 г. – на 25-то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бикновено народно събра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6" descr="images"/>
          <p:cNvPicPr/>
          <p:nvPr/>
        </p:nvPicPr>
        <p:blipFill>
          <a:blip r:embed="rId1"/>
          <a:stretch/>
        </p:blipFill>
        <p:spPr>
          <a:xfrm>
            <a:off x="1403280" y="333360"/>
            <a:ext cx="6553440" cy="41594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7"/>
          <p:cNvSpPr/>
          <p:nvPr/>
        </p:nvSpPr>
        <p:spPr>
          <a:xfrm>
            <a:off x="1423800" y="404640"/>
            <a:ext cx="376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61616"/>
                </a:solidFill>
                <a:latin typeface="Arial"/>
              </a:rPr>
              <a:t>Сградата на Народното събр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3"/>
          <p:cNvSpPr/>
          <p:nvPr/>
        </p:nvSpPr>
        <p:spPr>
          <a:xfrm>
            <a:off x="684360" y="189000"/>
            <a:ext cx="763272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ез 1939 г. избухва Втората световна война, а през 1941 г. България става съюзник  на Германия. Хитлер започва да упражнява  все по-силен натиск върху българските власти за „окончателно решение на еврейския въпрос“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2" descr="http://isurvived.org/Pictures_iSurvived-5/JewsArrested_BADEN-BADEN.GIF"/>
          <p:cNvPicPr/>
          <p:nvPr/>
        </p:nvPicPr>
        <p:blipFill>
          <a:blip r:embed="rId1"/>
          <a:stretch/>
        </p:blipFill>
        <p:spPr>
          <a:xfrm>
            <a:off x="1476360" y="2421000"/>
            <a:ext cx="597528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250920" y="54504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ще през декември 1940 годин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родното събрание приема Закон за защита на нацият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йто поставя началото на държавно организиран тормо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преследване на евреите в Българ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http://www.zwoje-scrolls.com/shoah/n7.jpg"/>
          <p:cNvPicPr/>
          <p:nvPr/>
        </p:nvPicPr>
        <p:blipFill>
          <a:blip r:embed="rId1"/>
          <a:stretch/>
        </p:blipFill>
        <p:spPr>
          <a:xfrm>
            <a:off x="324000" y="3500280"/>
            <a:ext cx="4608360" cy="3221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звезда"/>
          <p:cNvPicPr/>
          <p:nvPr/>
        </p:nvPicPr>
        <p:blipFill>
          <a:blip r:embed="rId2"/>
          <a:stretch/>
        </p:blipFill>
        <p:spPr>
          <a:xfrm>
            <a:off x="5940360" y="3933720"/>
            <a:ext cx="2828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24000" y="-1298880"/>
            <a:ext cx="8351640" cy="54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ешението за унищожаване на всички евреи на територията на Германия, на окупираните от нея територии и на териториите на съюзниците ѝ е взето от Хитлеристкото правителство в берлинското предградие Ванзее през 1942 г. Тогава започва масовото депортиране към Аушвиц (Освиенцим). Благодарение на местоположението си 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лизо до големи градове и на жп-връзкит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той става най-големият концентрационен лагер за евреи, цигани, пленници и партизани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лагер1"/>
          <p:cNvPicPr/>
          <p:nvPr/>
        </p:nvPicPr>
        <p:blipFill>
          <a:blip r:embed="rId1"/>
          <a:stretch/>
        </p:blipFill>
        <p:spPr>
          <a:xfrm>
            <a:off x="5724360" y="3457440"/>
            <a:ext cx="2189160" cy="3400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лагер2"/>
          <p:cNvPicPr/>
          <p:nvPr/>
        </p:nvPicPr>
        <p:blipFill>
          <a:blip r:embed="rId2"/>
          <a:stretch/>
        </p:blipFill>
        <p:spPr>
          <a:xfrm>
            <a:off x="395280" y="3789360"/>
            <a:ext cx="3889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250920" y="254520"/>
            <a:ext cx="889308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а 22 февруари 1943 г. комисарят по еврейските въпроси в Бълга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лександър Бел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ключва договор с представителя на Гестапо у нас Теодор Данеке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 поетапна депортация на българските евре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5" descr="belev sm.jpg"/>
          <p:cNvPicPr/>
          <p:nvPr/>
        </p:nvPicPr>
        <p:blipFill>
          <a:blip r:embed="rId1"/>
          <a:stretch/>
        </p:blipFill>
        <p:spPr>
          <a:xfrm>
            <a:off x="1332000" y="2349360"/>
            <a:ext cx="5892840" cy="41752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7"/>
          <p:cNvSpPr/>
          <p:nvPr/>
        </p:nvSpPr>
        <p:spPr>
          <a:xfrm>
            <a:off x="4728960" y="263700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161616"/>
                </a:solidFill>
                <a:latin typeface="Arial"/>
              </a:rPr>
              <a:t>Александър Беле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179280" y="115920"/>
            <a:ext cx="87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лизо девет хиляди души от „стара България“  трябва да бъдат арестувани, за да бъдат откарани в “лагер на смъртта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ървите арестувани  и откарани в Пловдив евреи  са от  родния град на  Димитър Пешев -  Кюстенди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12" descr="13766b"/>
          <p:cNvPicPr/>
          <p:nvPr/>
        </p:nvPicPr>
        <p:blipFill>
          <a:blip r:embed="rId1"/>
          <a:stretch/>
        </p:blipFill>
        <p:spPr>
          <a:xfrm>
            <a:off x="179280" y="3284640"/>
            <a:ext cx="4484880" cy="3384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евреи"/>
          <p:cNvPicPr/>
          <p:nvPr/>
        </p:nvPicPr>
        <p:blipFill>
          <a:blip r:embed="rId2"/>
          <a:stretch/>
        </p:blipFill>
        <p:spPr>
          <a:xfrm>
            <a:off x="4067280" y="2205000"/>
            <a:ext cx="48322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3"/>
          <p:cNvSpPr/>
          <p:nvPr/>
        </p:nvSpPr>
        <p:spPr>
          <a:xfrm>
            <a:off x="539640" y="333360"/>
            <a:ext cx="813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а  8  март  1943 г. делегация от четерима българи от Кюстендил пристига в София  и се срещат с подпредседателя на Народното събрание Димитър Пеш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ще на следващия ден, 9 март 1943 г., Димитър Пешев отива в Кюстендил, за да разбере лично  какво ста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Dimitar Peshev in kjustendil.jpg"/>
          <p:cNvPicPr/>
          <p:nvPr/>
        </p:nvPicPr>
        <p:blipFill>
          <a:blip r:embed="rId1"/>
          <a:stretch/>
        </p:blipFill>
        <p:spPr>
          <a:xfrm>
            <a:off x="1403280" y="2852640"/>
            <a:ext cx="6120000" cy="3584520"/>
          </a:xfrm>
          <a:prstGeom prst="rect">
            <a:avLst/>
          </a:prstGeom>
          <a:ln w="0">
            <a:noFill/>
          </a:ln>
        </p:spPr>
      </p:pic>
      <p:sp>
        <p:nvSpPr>
          <p:cNvPr id="188" name="TextBox 5"/>
          <p:cNvSpPr/>
          <p:nvPr/>
        </p:nvSpPr>
        <p:spPr>
          <a:xfrm>
            <a:off x="1928520" y="2997360"/>
            <a:ext cx="33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61616"/>
                </a:solidFill>
                <a:latin typeface="Arial"/>
              </a:rPr>
              <a:t>Димитър Пешев в Кюстенди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3T09:36:23Z</dcterms:created>
  <dc:creator>Home</dc:creator>
  <dc:description/>
  <dc:language>en-US</dc:language>
  <cp:lastModifiedBy>Home</cp:lastModifiedBy>
  <dcterms:modified xsi:type="dcterms:W3CDTF">2012-11-08T09:03:14Z</dcterms:modified>
  <cp:revision>29</cp:revision>
  <dc:subject/>
  <dc:title>Димитър Пешев</dc:title>
</cp:coreProperties>
</file>